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13.jpeg" ContentType="image/jpeg"/>
  <Override PartName="/ppt/media/image15.gif" ContentType="image/gif"/>
  <Override PartName="/ppt/media/image7.jpeg" ContentType="image/jpeg"/>
  <Override PartName="/ppt/media/image12.jpeg" ContentType="image/jpeg"/>
  <Override PartName="/ppt/media/image10.png" ContentType="image/png"/>
  <Override PartName="/ppt/media/image5.wmf" ContentType="image/x-wmf"/>
  <Override PartName="/ppt/media/image6.wmf" ContentType="image/x-wmf"/>
  <Override PartName="/ppt/media/image8.gif" ContentType="image/gi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01B4-DAD4-4918-B6E2-BF244FA57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89DC-AAD5-46C0-8AF4-A97A79703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1771-3776-402D-AC06-28621453B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8F52-B1E2-42C6-A58C-9ECAF864C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0442D-6E7A-4B5D-8F7A-67CBB57A8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791F6-033D-4648-A2BC-90A64BE22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785A1-B440-4DDD-9805-4CE16ECB3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9B801-F21A-4188-8F47-94BA07314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78953-4D61-4650-A37C-4EE538596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F7D7B-1A95-4578-A882-FF684EDB6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A3DA4-00B6-4983-AC12-32FC07EF9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3433-527A-41E5-AD8E-17261F15F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67592-03AC-4F77-8D3D-9F19D316B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730DE-78B5-46FC-BAD2-B3294C1EE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29FA8-525A-4C60-B8B5-6C42D02BF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A948E-E48F-473A-AFB5-0D2AFD0FD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29101-21EE-4F66-9633-A25E15F83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E00D-FC49-4C02-9296-B1B8C2CE9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4564-7388-42E3-87EB-E8588F091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306A-92B8-4659-B33F-56D99892B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9A6C-B909-42EF-942B-1C0766A35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1ED7-8323-4A5B-A1F6-A3B15B842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8679-7D42-4379-9607-61E9C162D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A2A1-CD4B-4259-A63A-8A7474892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76592-6A5A-4025-8D52-3C6BDCA953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AF9AD-D7F4-4C93-A834-18141A1B3E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artistshelpingchildren.org/kidscraftsactivitiesblog/wp-content/uploads/2010/03/sewing-box-square.png" TargetMode="External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8ae"/>
            </a:gs>
            <a:gs pos="100000">
              <a:srgbClr val="33cc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 rot="820200">
            <a:off x="5486040" y="0"/>
            <a:ext cx="2800440" cy="265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TOP!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12" name=""/>
          <p:cNvSpPr txBox="1"/>
          <p:nvPr/>
        </p:nvSpPr>
        <p:spPr>
          <a:xfrm rot="360600">
            <a:off x="2133720" y="2437920"/>
            <a:ext cx="4647960" cy="265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RECYCLE!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 rot="20667600">
            <a:off x="685800" y="533160"/>
            <a:ext cx="2205000" cy="234468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7086600" y="4114800"/>
            <a:ext cx="1535040" cy="21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cycling is very important to everybody, but why should you recycl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re are a lot of things you can do to help.  When you recycle you save energy. This energy can be used to power things such as, T.Vs, video games, computers, and mor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228600"/>
            <a:ext cx="4495680" cy="11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ECYCLING</a:t>
            </a:r>
            <a:endParaRPr b="0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6019920" y="0"/>
            <a:ext cx="160020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cycling paper products saves the need to hurt forests, swamps, rivers, lakes and other natural plac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ou can recycle by using the back of a sheet of paper when your done with the fro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ou can also ask your teacher if your class can use smencils instead of regular colored penci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6858000" y="4876920"/>
            <a:ext cx="1981080" cy="18381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762120" y="4876920"/>
            <a:ext cx="1868400" cy="17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3352680" y="2133720"/>
            <a:ext cx="2105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REDUC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nother way you can recycle is by practicing the three R’s. Reduce, reuse, and recycle. You can practice the three R’s at home, at school, and in your neighborhood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You can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RECYCLE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y recycling paper you don’t need or you are done with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You can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REDUCE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by purchasing items with little or no packi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You can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REUSE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y using a thermos instead of using a plastic water bottle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cycling at M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recycle pap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sure you throw your paper away in the recycle bin in your classroom and not in the garbage c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4876920" y="365760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cycle juice box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have a juice box in school or at home bring them into school and recycle them in the juice box container by the off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191120" y="3657600"/>
            <a:ext cx="1676160" cy="25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here are a lot of fun things you can make from recycled material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4038480"/>
            <a:ext cx="2438280" cy="24386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4800600" y="4495680"/>
            <a:ext cx="3733920" cy="21830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7086600" y="1447920"/>
            <a:ext cx="1763640" cy="289548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5"/>
          <a:stretch/>
        </p:blipFill>
        <p:spPr>
          <a:xfrm>
            <a:off x="304920" y="1600200"/>
            <a:ext cx="2838240" cy="21319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6"/>
          <a:stretch/>
        </p:blipFill>
        <p:spPr>
          <a:xfrm>
            <a:off x="3505320" y="1828800"/>
            <a:ext cx="320976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Recycling helps the earth so remember to recycle everyday!!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2819520" y="2057400"/>
            <a:ext cx="283824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7T15:40:53Z</dcterms:created>
  <dc:creator>mes5c</dc:creator>
  <dc:description/>
  <dc:language>en-US</dc:language>
  <cp:lastModifiedBy>mes5c</cp:lastModifiedBy>
  <dcterms:modified xsi:type="dcterms:W3CDTF">2010-12-02T18:47:17Z</dcterms:modified>
  <cp:revision>9</cp:revision>
  <dc:subject/>
  <dc:title>Slide 1</dc:title>
</cp:coreProperties>
</file>